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EE2-72B7-43D5-8FF2-D75A20E1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66D-FE6E-4C6E-A7A3-6544EF57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4AF-8F7C-464C-A1FA-8EA6FB31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A89-0726-4E7D-827D-CD9DDA6B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3DC-D27E-4887-A009-3004641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4F6-A517-4E54-8648-19C03850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6EA-EF1E-4BF9-B754-22A3A97A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237-7C5B-4CDA-82F0-7B6CC9D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D28-87AD-4E78-9503-75B3DB3A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F3E-E68C-4511-A501-642FEC18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15A-1F6D-4551-9C10-5421BB7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DD1-6150-4063-9EB5-C472FCF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BA5E-EAD0-4A05-92D9-1999659D70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352520"/>
            <a:ext cx="7929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πε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αβ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βαλλ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ενε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λθ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φευγ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δ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072040" y="21686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f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t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were th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057640" y="4707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057640" y="52038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as fl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057640" y="5715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.)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αθ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ὑ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μανθαν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π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νεγκ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λθ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λαβ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ular Aorist 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Pl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ural Aorist 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3786120" y="57974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28760" y="1352520"/>
            <a:ext cx="7929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αταβ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νεβ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λθ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γνω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γ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ing gon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en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k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ing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319040"/>
            <a:ext cx="792936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οι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ον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αγον τον ἀρ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θοντες εἰδ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ε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ι ἐλθειν εἰς τα Ἱεροσολυμ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2198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72000" y="2708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/they were lead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72000" y="32050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ate the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0" y="3718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y came, they saw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72000" y="4214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e the ro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72000" y="473868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necessary to go to Jerusa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176480"/>
            <a:ext cx="792936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ων ταυτα ὁ Ἰησου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ξηλθ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ας εἰς το ἱερον ἀπεθαν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phets sp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loved the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nt to see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 found it, I took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43280" y="12859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Jesus had said these things he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643280" y="22813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ad gone up to the temple h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641840" y="328464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προφηται εἰπ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643280" y="37861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υἱον ἐφιλησα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ιλου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f you want to stress continuity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643280" y="480060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λω ἰδειν (βλεψαι) την θαλασσαν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643280" y="582300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ὑρων ἐλαβον αὐτο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28760" y="1352520"/>
            <a:ext cx="792936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μειν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αγγελοῦ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ἠγειρ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rem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57640" y="267660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ann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057640" y="3173400"/>
            <a:ext cx="38721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raised (in fac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ειρ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also be imperfect- he was rai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072040" y="43959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ki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72040" y="4896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will judge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28760" y="4297320"/>
            <a:ext cx="45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εκτειν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κρινεῖ τον κοσ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ποστειλας ἐξηλθ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72040" y="53960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ing sent, he went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14200" y="1352520"/>
            <a:ext cx="7929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λω σπειρ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ραντες, ἠνεγ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857840" y="21686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sh to s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843440" y="27068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they lifted, they br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143000" y="342900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ann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pl.) will th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ise (s.) the dead m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killed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857840" y="34146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αγγελουσι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4857840" y="414504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ειτ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857840" y="488808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ειρον τον νεκρ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4857840" y="56088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τεινεν αὐτη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6:34:43Z</dcterms:created>
  <dc:creator>Sarah</dc:creator>
  <dc:description/>
  <dc:language>en-US</dc:language>
  <cp:lastModifiedBy>Sarah</cp:lastModifiedBy>
  <dcterms:modified xsi:type="dcterms:W3CDTF">2009-03-03T21:22:16Z</dcterms:modified>
  <cp:revision>28</cp:revision>
  <dc:subject/>
  <dc:title>Slide 1</dc:title>
</cp:coreProperties>
</file>